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302-2E0E-48A0-97D5-65F68727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D57-F982-4D21-8E5D-9236A653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588-46ED-474C-A423-1EF53CD2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D3C-1FE8-4A0A-A235-1909CF84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DCC0-16C6-4C51-B412-4B2D046B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FA08-2C40-4E19-B58A-2FD61F30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AC46-8EF6-4ABE-8F59-96EF7C30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D705-8DBB-4224-945F-F5BC566E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9018-229E-4BA1-815F-90B818A8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CD9F-6B8D-4BFE-9214-B38B8CCC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E328-D718-4E34-9700-0B9D2DDE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704-30FC-4322-90DF-A0E23C51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DF09-8F74-4B68-B148-E34EF5A2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8B61-756B-4887-AF5D-D8C5620D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762C-A17A-457E-9D31-21C57B76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14AF-18BB-4C2A-BCD1-12EF41D1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DDD1-975F-419F-87B7-7E76BF43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230-199F-4607-9C38-606B63BC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DEF1-65CC-4FD9-BE29-DD4C95FA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0A2-60F7-40B8-8A82-6DAAD229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6736-99D6-49B9-91A4-A3F12831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484-E5AE-4108-9982-87CF3034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9D3-29E9-4F21-A54F-266CA07B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842-F76F-48FC-9128-87D78FA4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1EDF-FCDC-4062-8FFC-E60BA70BC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3638-B0B8-4149-BAC9-C31BC5146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ahoma"/>
              </a:rPr>
              <a:t>Mi viaje a </a:t>
            </a:r>
            <a:r>
              <a:rPr b="1" lang="en-US" sz="4400" spc="-1" strike="noStrike">
                <a:solidFill>
                  <a:srgbClr val="33cc33"/>
                </a:solidFill>
                <a:latin typeface="Tahoma"/>
              </a:rPr>
              <a:t>Mex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ff99"/>
                </a:solidFill>
                <a:latin typeface="Tahoma"/>
              </a:rPr>
              <a:t>Ryan</a:t>
            </a: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99ff99"/>
                </a:solidFill>
                <a:latin typeface="Tahoma"/>
              </a:rPr>
              <a:t>Hemin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71600" y="2666880"/>
            <a:ext cx="6400800" cy="33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ahoma"/>
              </a:rPr>
              <a:t>El primer di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ida Madr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y llegue al hotel en Guadalajara, Chapalita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sident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Continental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uadalajara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muy grande y bonito.tiene muchas actividades y tiene una piscina grande. hace color y sol. Yo lleve comiseta y pantalones quartos.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No es necesario usar pantal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Cariñosos saludo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Ry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8320" y="388620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Script MT Bold"/>
              </a:rPr>
              <a:t>La Play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ola Padr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 el segundo día yo llegue a la playa! El clima es muy bueno. Hace sol y mucho color.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Yo fui a nadar en el océano y las olas pequeñas. Yo trajo una toalla y crema protectora a la playa. Fui a surfing en las olas grand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A rippled sandy Caribbean beach on Isla Mujeres, off the Yucatan Peninsula."/>
          <p:cNvPicPr/>
          <p:nvPr/>
        </p:nvPicPr>
        <p:blipFill>
          <a:blip r:embed="rId2"/>
          <a:stretch/>
        </p:blipFill>
        <p:spPr>
          <a:xfrm>
            <a:off x="4876920" y="3809880"/>
            <a:ext cx="3895560" cy="2597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47920" y="38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Cariñosos salud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Ry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ockwell Condensed"/>
              </a:rPr>
              <a:t>Las Tiendas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la, Max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y fui a las tiendas. Lleve quinientos 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res a las tiendas y yo comp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una memoria. En las tiendas hay muchas memorias, y pase un dia bueno en la tiendas. No hay comida y yo necesite comida porque fue hombr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stellar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riñosos saludo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y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152960" cy="2765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33cc33"/>
                </a:solidFill>
                <a:latin typeface="Script MT Bold"/>
              </a:rPr>
              <a:t>Los Delf</a:t>
            </a:r>
            <a:r>
              <a:rPr b="0" lang="en-US" sz="4400" spc="-1" strike="noStrike">
                <a:solidFill>
                  <a:srgbClr val="33cc33"/>
                </a:solidFill>
                <a:latin typeface="Script MT Bold"/>
                <a:ea typeface="Tahoma"/>
              </a:rPr>
              <a:t>í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rida, Morg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y yo voy a la piscina grande. En la piscina hay los del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ínes. Lo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l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ínes son muy hermoso. Yo nadé con ellos. Fue un fascinante dia y un vez en la vida opurtunidad. Pero yo espero yo fui otra vez. Lo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l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ínes comé pescado y no comé biftec. Yo nadé normalmente tambi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Happy Trio @ Dolphins Vallarta"/>
          <p:cNvPicPr/>
          <p:nvPr/>
        </p:nvPicPr>
        <p:blipFill>
          <a:blip r:embed="rId2"/>
          <a:stretch/>
        </p:blipFill>
        <p:spPr>
          <a:xfrm>
            <a:off x="4343400" y="3962520"/>
            <a:ext cx="4438800" cy="257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90720" y="4343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Cariñosos salud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Ry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Script MT Bold"/>
              </a:rPr>
              <a:t>El Restaurante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rida, Kirb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el final dia fui al restaurante muy bueno. Yo lleve un traje al restaurante. En la restaurante yo comp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é pollo y un pepsi. Por postre yo compré helado. No compré biftec o pescado. Me gusto pollo mejor. Pagué 500 pesos por mi comid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Cariñosos saludo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Ry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Fancy Restaurant"/>
          <p:cNvPicPr/>
          <p:nvPr/>
        </p:nvPicPr>
        <p:blipFill>
          <a:blip r:embed="rId2"/>
          <a:stretch/>
        </p:blipFill>
        <p:spPr>
          <a:xfrm>
            <a:off x="4876920" y="3581280"/>
            <a:ext cx="3733560" cy="2987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28:27Z</dcterms:created>
  <dc:creator>heminwayrya</dc:creator>
  <dc:description/>
  <dc:language>en-US</dc:language>
  <cp:lastModifiedBy>heminwayrya</cp:lastModifiedBy>
  <dcterms:modified xsi:type="dcterms:W3CDTF">2011-11-30T16:50:32Z</dcterms:modified>
  <cp:revision>14</cp:revision>
  <dc:subject/>
  <dc:title>Mi viaje a Mexico</dc:title>
</cp:coreProperties>
</file>